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40B-7EA1-4E6D-87A0-B5008803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DBC-45DE-4DA0-858E-7CAD688F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D5E-F2BA-49F1-917E-058B42CE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D7C-FD37-4C58-83B1-88758103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DE0-71B7-4ADF-A772-BCBE36B6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1C22-DAAA-4C59-89B3-BEB5F91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037-9A71-4412-BEC8-6E0E73F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6A53-A09E-4FA9-8B5C-B754255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1E6-0118-4988-93ED-31E6030E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ACF-C0FD-4787-B1DA-6194F4E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E5E0-40A2-47F0-BBE5-7E378B2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180-79C9-470E-84AD-D463C14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B658-FAAB-4AC1-9534-8702A780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7C7-DD7B-44DF-BF33-F65C572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A21-5B69-4A8D-9F26-933E94C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5F3-FA23-43AB-8E0B-145DC552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2E5-1582-4663-97B4-3108132E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8FB-5553-4CF4-96EC-05176AEB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1F8-3F00-4F28-B755-9433760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6BD-6432-4CE2-B654-4F0D546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374-DF44-4A47-A744-B88F449D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0B2-FECA-4BDB-AA88-1F6717D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412-7235-40F7-BD90-6A12AD6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D9A-ED60-4C47-802F-EB8328B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F14-D750-45AE-ABC0-11F2672F48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2FC-E6B8-4CDA-B5D4-4FDD98945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Three Domains of Learning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286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r. Verk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DG 44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eaching Strategies and Classroom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versity of Central Florida, Orlando, F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778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vels of the Cognitive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930240"/>
          <a:ext cx="8382240" cy="5394240"/>
        </p:xfrm>
        <a:graphic>
          <a:graphicData uri="http://schemas.openxmlformats.org/drawingml/2006/table">
            <a:tbl>
              <a:tblPr/>
              <a:tblGrid>
                <a:gridCol w="1347840"/>
                <a:gridCol w="3452760"/>
                <a:gridCol w="1262160"/>
                <a:gridCol w="2319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recall or recognize information in some pre-arranged for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fine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omprehen-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nderstand meaning of information based on prior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cribe Expl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Interpr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Explain purpose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tilize information to complete a task with limited dire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Sol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Write objective for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classify and relate assumptions or evid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Compare cognitive &amp; affective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integrate or combine ideas into a new product or pl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ign Devel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Organ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sign way to write objectives that combines 3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Critique idea based on specific standards and criteri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pprai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st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udge effectiveness of writing objectives using taxonom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2615760" y="6411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goals are known as goal statements, goals objectives, objectives, or learning target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are said to come from the affective doma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ffective domain contains five levels, each of which builds upon the othe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30824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th-1.jpg"/>
          <p:cNvPicPr/>
          <p:nvPr/>
        </p:nvPicPr>
        <p:blipFill>
          <a:blip r:embed="rId1"/>
          <a:stretch/>
        </p:blipFill>
        <p:spPr>
          <a:xfrm>
            <a:off x="5757840" y="2286000"/>
            <a:ext cx="20145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58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vels of the Affective Dom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95280"/>
          <a:ext cx="8381880" cy="475452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1295280"/>
                <a:gridCol w="22096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cei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Being aware of, or attending to something in the environ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No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Tol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Listen attentively to badminton introdu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spo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new behavior as a result of experi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ly Enjo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Fo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Voluntarily help set up badminton n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Valu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definite involvement or commit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arry out Exp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Attend optional badminton matc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Integrating a new value into one's general set of values relative to other priorit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hoo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sider Pre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Purchase own badminton racke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haracter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Acting consistently with the new value; person is known by the val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ct on Depic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empl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oin intramurals to play badminton twice per wee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1"/>
          <p:cNvSpPr/>
          <p:nvPr/>
        </p:nvSpPr>
        <p:spPr>
          <a:xfrm>
            <a:off x="2552040" y="63244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– gross motor control, such as skipping and ru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– fine motor coordination, such as writing, drawing, cu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ng – communication of ideas and feelings, such as body language, gestures, and facial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 (such as drama, dance, ar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7-01-01T10:15:00Z</dcterms:modified>
  <cp:revision>265</cp:revision>
  <dc:subject/>
  <dc:title>Slide 1</dc:title>
</cp:coreProperties>
</file>